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9B337-C18D-4E11-9DE0-786C9FF5B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77BA4-83DB-4441-B553-4A4687AAC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84E0A-421E-4415-90F3-505E9C5BA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FB05F-3833-4B43-A2B9-997EBF745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B8580-18A8-43C8-AC3A-BEDC43476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98414-C3D6-4CF9-BAB2-4CD704164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04C1D-C181-44DF-A28A-D83890067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D070F-322B-4482-8463-4CD0D01D7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9416F-8E4E-4AA7-8085-C88B90187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9F89D-580D-4B40-A6CD-467BB6712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171F9-985A-4CE4-A5E5-FE4BFA180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64BFA-51EE-4F26-A4C6-3B09D35AF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E0DB8-9D10-4AFE-88D6-9A5256C81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FF123-E8A5-4C7E-A213-EA1AF64B9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027A5-9EFB-476C-99D9-A0ED5923D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945AC-EC0C-42E3-8021-B9382BE99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4603E-0DC2-416B-9D6E-5D5DBC178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BF939-324C-4981-AC25-6D0229C87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93C61-D495-4173-BF22-5C7027BDB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37E31-716A-4527-882B-E030EF4A4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28734-F747-4D9C-A614-6FCB574DC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1956F-D977-4F76-8F25-53BE8B626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8BD75-E102-4E2D-9F76-85C764D61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5DA58-A16B-41BF-86EC-5E6171F73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4E0DA-25ED-4BF5-B1B9-8531947451B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27FB0-9103-4F8C-807B-3453645C4D2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.wmf"/><Relationship Id="rId9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slide" Target="slide8.xml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wmf"/><Relationship Id="rId7" Type="http://schemas.openxmlformats.org/officeDocument/2006/relationships/slideLayout" Target="../slideLayouts/slideLayout8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8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55280" y="475920"/>
            <a:ext cx="8007480" cy="26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Tahoma"/>
              </a:rPr>
              <a:t>Определение арифметической прогрессии. Формула </a:t>
            </a:r>
            <a:r>
              <a:rPr b="0" lang="en-US" sz="4000" spc="-1" strike="noStrike">
                <a:solidFill>
                  <a:srgbClr val="ff3300"/>
                </a:solidFill>
                <a:latin typeface="Tahoma"/>
              </a:rPr>
              <a:t>n</a:t>
            </a:r>
            <a:r>
              <a:rPr b="0" lang="ru-RU" sz="4000" spc="-1" strike="noStrike">
                <a:solidFill>
                  <a:srgbClr val="ff3300"/>
                </a:solidFill>
                <a:latin typeface="Tahoma"/>
              </a:rPr>
              <a:t>-го чле-на арифметической прогрессии.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9 класс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"/>
          <p:cNvSpPr/>
          <p:nvPr/>
        </p:nvSpPr>
        <p:spPr>
          <a:xfrm>
            <a:off x="2843280" y="4724280"/>
            <a:ext cx="34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      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Урок № 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55280" y="475920"/>
            <a:ext cx="8007480" cy="26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Tahoma"/>
              </a:rPr>
              <a:t>Определение арифметической прогрессии. Формула </a:t>
            </a:r>
            <a:r>
              <a:rPr b="0" lang="en-US" sz="4000" spc="-1" strike="noStrike">
                <a:solidFill>
                  <a:srgbClr val="ff3300"/>
                </a:solidFill>
                <a:latin typeface="Tahoma"/>
              </a:rPr>
              <a:t>n</a:t>
            </a:r>
            <a:r>
              <a:rPr b="0" lang="ru-RU" sz="4000" spc="-1" strike="noStrike">
                <a:solidFill>
                  <a:srgbClr val="ff3300"/>
                </a:solidFill>
                <a:latin typeface="Tahoma"/>
              </a:rPr>
              <a:t>-го чле-на арифметической прогрессии.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9 класс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"/>
          <p:cNvSpPr/>
          <p:nvPr/>
        </p:nvSpPr>
        <p:spPr>
          <a:xfrm>
            <a:off x="2843280" y="4724280"/>
            <a:ext cx="34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      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Урок № 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315600" y="5661000"/>
            <a:ext cx="577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ahoma"/>
              </a:rPr>
              <a:t>Прогрессия – движение вперёд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   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Цель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2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Научиться применять изученный материал, включающий определение, свойства, формулу n-го члена арифметической прогрессии,  на практике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Устная работ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42920" y="184428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Дайте определение арифметической прогрессии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1403280" y="5157720"/>
          <a:ext cx="2016360" cy="103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5157720"/>
                    <a:ext cx="2016360" cy="103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"/>
          <p:cNvSpPr/>
          <p:nvPr/>
        </p:nvSpPr>
        <p:spPr>
          <a:xfrm>
            <a:off x="971640" y="2637000"/>
            <a:ext cx="7772400" cy="35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597240" indent="-5972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Какие из последовательностей являются арифметическими прогрессиями? Почему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5, 12, 18, 24, 30,…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, 6, 9, 12,….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 -7, -14, -28, -35, -49,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Устная работ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7800" indent="-577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Что называют разностью арифметической прогрессии? Как обозначают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77800" indent="-577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Найти разность арифметической прогрессии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77800" indent="-577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; 5; 9……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77800" indent="-577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5; 100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77800" indent="-577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-13; -15; -17…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77800" indent="-577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1; ? ; 19,…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Устная работ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7061400" cy="12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Какое  из  равенств является формулой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-ого члена арифметической прогрессии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1979640" y="3357720"/>
          <a:ext cx="3816360" cy="82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3357720"/>
                    <a:ext cx="3816360" cy="82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7" name=""/>
          <p:cNvGraphicFramePr/>
          <p:nvPr/>
        </p:nvGraphicFramePr>
        <p:xfrm>
          <a:off x="1908000" y="4149720"/>
          <a:ext cx="4176720" cy="770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08000" y="4149720"/>
                    <a:ext cx="4176720" cy="77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9" name=""/>
          <p:cNvGraphicFramePr/>
          <p:nvPr/>
        </p:nvGraphicFramePr>
        <p:xfrm>
          <a:off x="1908000" y="4797360"/>
          <a:ext cx="4185000" cy="827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908000" y="4797360"/>
                    <a:ext cx="4185000" cy="82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1" name=""/>
          <p:cNvGraphicFramePr/>
          <p:nvPr/>
        </p:nvGraphicFramePr>
        <p:xfrm>
          <a:off x="1908000" y="5516640"/>
          <a:ext cx="4227840" cy="8269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908000" y="5516640"/>
                    <a:ext cx="4227840" cy="82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8" dur="2000" fill="hold"/>
                                        <p:tgtEl>
                                          <p:spTgt spid="17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Устная работ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Запишите формулу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-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го члена арифметической прогрессии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ервый член арифметической прогрессии равен 5, а разность 3, найдите её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340000" y="4005360"/>
            <a:ext cx="37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пятнадцатый чле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340000" y="4005360"/>
            <a:ext cx="37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сто первый чле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556000" y="4076640"/>
            <a:ext cx="367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диннадцатый член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042920" y="260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</a:t>
            </a:r>
            <a:r>
              <a:rPr b="0" lang="en-US" sz="4400" spc="-1" strike="noStrike" baseline="-25000">
                <a:solidFill>
                  <a:srgbClr val="333399"/>
                </a:solidFill>
                <a:latin typeface="Arial"/>
              </a:rPr>
              <a:t>n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=a</a:t>
            </a:r>
            <a:r>
              <a:rPr b="0" lang="en-US" sz="4400" spc="-1" strike="noStrike" baseline="-25000">
                <a:solidFill>
                  <a:srgbClr val="333399"/>
                </a:solidFill>
                <a:latin typeface="Arial"/>
              </a:rPr>
              <a:t>1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 + d(n-1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Oval 3"/>
          <p:cNvSpPr/>
          <p:nvPr/>
        </p:nvSpPr>
        <p:spPr>
          <a:xfrm>
            <a:off x="3419640" y="3645000"/>
            <a:ext cx="2592360" cy="1079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</a:t>
            </a:r>
            <a:r>
              <a:rPr b="1" lang="en-US" sz="2800" spc="-1" strike="noStrike" baseline="-25000">
                <a:solidFill>
                  <a:srgbClr val="333399"/>
                </a:solidFill>
                <a:latin typeface="Arial"/>
              </a:rPr>
              <a:t>n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=a</a:t>
            </a:r>
            <a:r>
              <a:rPr b="1" lang="en-US" sz="2800" spc="-1" strike="noStrike" baseline="-25000">
                <a:solidFill>
                  <a:srgbClr val="333399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+ d(n-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Oval 4"/>
          <p:cNvSpPr/>
          <p:nvPr/>
        </p:nvSpPr>
        <p:spPr>
          <a:xfrm>
            <a:off x="1332000" y="4869000"/>
            <a:ext cx="1439640" cy="718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  <a:hlinkClick r:id="rId1" action="ppaction://hlinksldjump"/>
              </a:rPr>
              <a:t>a</a:t>
            </a:r>
            <a:r>
              <a:rPr b="0" lang="en-US" sz="2800" spc="-1" strike="noStrike" u="sng" baseline="-25000">
                <a:solidFill>
                  <a:srgbClr val="ff0000"/>
                </a:solidFill>
                <a:uFillTx/>
                <a:latin typeface="Arial"/>
                <a:hlinkClick r:id="rId2" action="ppaction://hlinksldjump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Oval 5"/>
          <p:cNvSpPr/>
          <p:nvPr/>
        </p:nvSpPr>
        <p:spPr>
          <a:xfrm>
            <a:off x="3851280" y="5877000"/>
            <a:ext cx="1440000" cy="718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</a:t>
            </a:r>
            <a:r>
              <a:rPr b="1" lang="en-US" sz="2800" spc="-1" strike="noStrike" baseline="-25000">
                <a:solidFill>
                  <a:srgbClr val="333399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Oval 6"/>
          <p:cNvSpPr/>
          <p:nvPr/>
        </p:nvSpPr>
        <p:spPr>
          <a:xfrm>
            <a:off x="6443640" y="4653000"/>
            <a:ext cx="1440000" cy="719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Oval 7"/>
          <p:cNvSpPr/>
          <p:nvPr/>
        </p:nvSpPr>
        <p:spPr>
          <a:xfrm>
            <a:off x="5867280" y="2349360"/>
            <a:ext cx="1440000" cy="719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  <a:hlinkClick r:id="rId3" action="ppaction://hlinksldjump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Oval 8"/>
          <p:cNvSpPr/>
          <p:nvPr/>
        </p:nvSpPr>
        <p:spPr>
          <a:xfrm>
            <a:off x="2124000" y="2349360"/>
            <a:ext cx="1440000" cy="719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(a</a:t>
            </a:r>
            <a:r>
              <a:rPr b="1" lang="en-US" sz="2800" spc="-1" strike="noStrike" baseline="-25000">
                <a:solidFill>
                  <a:srgbClr val="333399"/>
                </a:solidFill>
                <a:latin typeface="Arial"/>
              </a:rPr>
              <a:t>n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9"/>
          <p:cNvSpPr/>
          <p:nvPr/>
        </p:nvSpPr>
        <p:spPr>
          <a:xfrm flipH="1">
            <a:off x="2484360" y="4365720"/>
            <a:ext cx="100800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10"/>
          <p:cNvSpPr/>
          <p:nvPr/>
        </p:nvSpPr>
        <p:spPr>
          <a:xfrm>
            <a:off x="4643280" y="4724280"/>
            <a:ext cx="0" cy="115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11"/>
          <p:cNvSpPr/>
          <p:nvPr/>
        </p:nvSpPr>
        <p:spPr>
          <a:xfrm>
            <a:off x="5940360" y="4365720"/>
            <a:ext cx="64764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12"/>
          <p:cNvSpPr/>
          <p:nvPr/>
        </p:nvSpPr>
        <p:spPr>
          <a:xfrm flipV="1">
            <a:off x="5435640" y="3068280"/>
            <a:ext cx="100800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13"/>
          <p:cNvSpPr/>
          <p:nvPr/>
        </p:nvSpPr>
        <p:spPr>
          <a:xfrm flipH="1" flipV="1">
            <a:off x="3131640" y="3068280"/>
            <a:ext cx="10796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755280" y="475920"/>
            <a:ext cx="8007480" cy="26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Tahoma"/>
              </a:rPr>
              <a:t>Определение арифметической прогрессии. Формула </a:t>
            </a:r>
            <a:r>
              <a:rPr b="0" lang="en-US" sz="4000" spc="-1" strike="noStrike">
                <a:solidFill>
                  <a:srgbClr val="ff3300"/>
                </a:solidFill>
                <a:latin typeface="Tahoma"/>
              </a:rPr>
              <a:t>n</a:t>
            </a:r>
            <a:r>
              <a:rPr b="0" lang="ru-RU" sz="4000" spc="-1" strike="noStrike">
                <a:solidFill>
                  <a:srgbClr val="ff3300"/>
                </a:solidFill>
                <a:latin typeface="Tahoma"/>
              </a:rPr>
              <a:t>-го чле-на арифметической прогрессии.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3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9 класс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"/>
          <p:cNvSpPr/>
          <p:nvPr/>
        </p:nvSpPr>
        <p:spPr>
          <a:xfrm>
            <a:off x="2843280" y="4724280"/>
            <a:ext cx="34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      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Урок № 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604320" y="5533920"/>
            <a:ext cx="577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ahoma"/>
              </a:rPr>
              <a:t>Прогрессия – движение вперёд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Цель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Дальнейшее освоение теоретических знаний по теме «Определение арифметической прогрессии. Формула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-го члена арифметической прогрессии»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рименять полученные знания для решения задач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Устная работ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116000" y="2017440"/>
            <a:ext cx="7632720" cy="9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Какая последовательность называется арифметической прогрессией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"/>
          <p:cNvSpPr/>
          <p:nvPr/>
        </p:nvSpPr>
        <p:spPr>
          <a:xfrm>
            <a:off x="1042920" y="4508640"/>
            <a:ext cx="763272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Является ли последовательность чисел, кратных 6 арифметической прогрессией? Чему равен ее первый член и разност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116000" y="3068640"/>
            <a:ext cx="763272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Как проверить, является ли последовательность арифметической прогрессией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   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Цель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2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Изучить определение арифметической прогрессии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Научиться определять является ли числовая последовательность арифметической прогрессией или нет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Изучить формулу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-го члена  арифметической прогрессии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Научиться применять формулу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-го члена  арифметической прогрессии при решении задач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Устная работ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7061400" cy="12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Является ли арифметической прогрессией последовательность (</a:t>
            </a: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а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) заданная формулой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627280" y="3429000"/>
          <a:ext cx="2762280" cy="82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27280" y="3429000"/>
                    <a:ext cx="276228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4" name=""/>
          <p:cNvGraphicFramePr/>
          <p:nvPr/>
        </p:nvGraphicFramePr>
        <p:xfrm>
          <a:off x="2700360" y="4149720"/>
          <a:ext cx="2513160" cy="770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00360" y="4149720"/>
                    <a:ext cx="2513160" cy="77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6" name=""/>
          <p:cNvGraphicFramePr/>
          <p:nvPr/>
        </p:nvGraphicFramePr>
        <p:xfrm>
          <a:off x="2700360" y="4869000"/>
          <a:ext cx="2987640" cy="826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700360" y="4869000"/>
                    <a:ext cx="2987640" cy="82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8" name=""/>
          <p:cNvSpPr/>
          <p:nvPr/>
        </p:nvSpPr>
        <p:spPr>
          <a:xfrm>
            <a:off x="1476360" y="5591160"/>
            <a:ext cx="7061040" cy="93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Вычислить первые три члена последовательност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Устная работ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134480" cy="19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Разность арифметической прогрессии равна 4. Какой формулой может быть задана эта арифметическая прогрессия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3203640" y="3645000"/>
          <a:ext cx="2089080" cy="606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3640" y="3645000"/>
                    <a:ext cx="2089080" cy="60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3" name=""/>
          <p:cNvGraphicFramePr/>
          <p:nvPr/>
        </p:nvGraphicFramePr>
        <p:xfrm>
          <a:off x="3203640" y="4292640"/>
          <a:ext cx="2087640" cy="588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03640" y="4292640"/>
                    <a:ext cx="2087640" cy="58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5" name=""/>
          <p:cNvGraphicFramePr/>
          <p:nvPr/>
        </p:nvGraphicFramePr>
        <p:xfrm>
          <a:off x="3203640" y="4869000"/>
          <a:ext cx="2158920" cy="612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203640" y="4869000"/>
                    <a:ext cx="215892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7" name=""/>
          <p:cNvSpPr/>
          <p:nvPr/>
        </p:nvSpPr>
        <p:spPr>
          <a:xfrm>
            <a:off x="1547640" y="5589720"/>
            <a:ext cx="576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Чему равен первый член этой арифметической прогресси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Урок сегодня завершён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Но каждый должен знать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Познание, упорство, труд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К прогрессу в жизни приведут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Что такое ПРОГРЕССИЯ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250560" y="2017800"/>
            <a:ext cx="6654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Термин «</a:t>
            </a:r>
            <a:r>
              <a:rPr b="0" lang="ru-RU" sz="3600" spc="-1" strike="noStrike">
                <a:solidFill>
                  <a:srgbClr val="ff3300"/>
                </a:solidFill>
                <a:latin typeface="Tahoma"/>
              </a:rPr>
              <a:t>прогрессия</a:t>
            </a: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»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267120" indent="-2671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имеет латинское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267120" indent="-2671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происхождение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267120" indent="-2671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(progression), что означает «</a:t>
            </a:r>
            <a:r>
              <a:rPr b="0" lang="ru-RU" sz="3600" spc="-1" strike="noStrike">
                <a:solidFill>
                  <a:srgbClr val="ff3300"/>
                </a:solidFill>
                <a:latin typeface="Tahoma"/>
              </a:rPr>
              <a:t>движение вперед</a:t>
            </a: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»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267120" indent="-2671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и был введен римским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267120" indent="-2671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автором </a:t>
            </a:r>
            <a:r>
              <a:rPr b="0" lang="ru-RU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Боэцием</a:t>
            </a: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 (VI в.)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267120" indent="-2671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6588000" y="2133720"/>
            <a:ext cx="2286000" cy="32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9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Что такое ПРОГРЕССИЯ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50752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Этим термином в математике прежде именовали всякую последовательность чисел, построенную по такому закону, который позволяет неограниченно продолжать эту последовательность в одном направлении.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В настоящее время термин «прогрессия» в первоначально широком смысле не употребляется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VIII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. в английских учебниках появились обозначения арифметической и геометрической прогрессий: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10" name="Group 33"/>
          <p:cNvGrpSpPr/>
          <p:nvPr/>
        </p:nvGrpSpPr>
        <p:grpSpPr>
          <a:xfrm>
            <a:off x="3344760" y="4076640"/>
            <a:ext cx="5474880" cy="581400"/>
            <a:chOff x="3344760" y="4076640"/>
            <a:chExt cx="5474880" cy="581400"/>
          </a:xfrm>
        </p:grpSpPr>
        <p:sp>
          <p:nvSpPr>
            <p:cNvPr id="111" name="Rectangle 6"/>
            <p:cNvSpPr/>
            <p:nvPr/>
          </p:nvSpPr>
          <p:spPr>
            <a:xfrm>
              <a:off x="7524720" y="4105080"/>
              <a:ext cx="107964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2" name="Group 32"/>
            <p:cNvGrpSpPr/>
            <p:nvPr/>
          </p:nvGrpSpPr>
          <p:grpSpPr>
            <a:xfrm>
              <a:off x="3344760" y="4076640"/>
              <a:ext cx="5474880" cy="581400"/>
              <a:chOff x="3344760" y="4076640"/>
              <a:chExt cx="5474880" cy="581400"/>
            </a:xfrm>
          </p:grpSpPr>
          <p:sp>
            <p:nvSpPr>
              <p:cNvPr id="113" name="Rectangle 4"/>
              <p:cNvSpPr/>
              <p:nvPr/>
            </p:nvSpPr>
            <p:spPr>
              <a:xfrm>
                <a:off x="3344760" y="4076640"/>
                <a:ext cx="42084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Constantia"/>
                  </a:rPr>
                  <a:t>Арифметическая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Constantia"/>
                  </a:rPr>
                  <a:t> 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4" name="Group 7"/>
              <p:cNvGrpSpPr/>
              <p:nvPr/>
            </p:nvGrpSpPr>
            <p:grpSpPr>
              <a:xfrm>
                <a:off x="7885080" y="4105080"/>
                <a:ext cx="934560" cy="519120"/>
                <a:chOff x="7885080" y="4105080"/>
                <a:chExt cx="934560" cy="519120"/>
              </a:xfrm>
            </p:grpSpPr>
            <p:sp>
              <p:nvSpPr>
                <p:cNvPr id="115" name="Text Box 8"/>
                <p:cNvSpPr/>
                <p:nvPr/>
              </p:nvSpPr>
              <p:spPr>
                <a:xfrm>
                  <a:off x="8316720" y="4105080"/>
                  <a:ext cx="50292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16" name="Group 9"/>
                <p:cNvGrpSpPr/>
                <p:nvPr/>
              </p:nvGrpSpPr>
              <p:grpSpPr>
                <a:xfrm>
                  <a:off x="7885080" y="4249440"/>
                  <a:ext cx="360000" cy="290520"/>
                  <a:chOff x="7885080" y="4249440"/>
                  <a:chExt cx="360000" cy="290520"/>
                </a:xfrm>
              </p:grpSpPr>
              <p:grpSp>
                <p:nvGrpSpPr>
                  <p:cNvPr id="117" name="Group 10"/>
                  <p:cNvGrpSpPr/>
                  <p:nvPr/>
                </p:nvGrpSpPr>
                <p:grpSpPr>
                  <a:xfrm>
                    <a:off x="7885080" y="4249440"/>
                    <a:ext cx="360000" cy="144360"/>
                    <a:chOff x="7885080" y="4249440"/>
                    <a:chExt cx="360000" cy="144360"/>
                  </a:xfrm>
                </p:grpSpPr>
                <p:sp>
                  <p:nvSpPr>
                    <p:cNvPr id="118" name="Line 11"/>
                    <p:cNvSpPr/>
                    <p:nvPr/>
                  </p:nvSpPr>
                  <p:spPr>
                    <a:xfrm>
                      <a:off x="7885080" y="4393800"/>
                      <a:ext cx="36000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9" name="Oval 12"/>
                    <p:cNvSpPr/>
                    <p:nvPr/>
                  </p:nvSpPr>
                  <p:spPr>
                    <a:xfrm>
                      <a:off x="8029080" y="4249440"/>
                      <a:ext cx="70920" cy="7308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5400" bIns="54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0" name="Oval 13"/>
                  <p:cNvSpPr/>
                  <p:nvPr/>
                </p:nvSpPr>
                <p:spPr>
                  <a:xfrm>
                    <a:off x="8029080" y="4466880"/>
                    <a:ext cx="70920" cy="7308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121" name="Group 35"/>
          <p:cNvGrpSpPr/>
          <p:nvPr/>
        </p:nvGrpSpPr>
        <p:grpSpPr>
          <a:xfrm>
            <a:off x="3369240" y="4941720"/>
            <a:ext cx="4930200" cy="625680"/>
            <a:chOff x="3369240" y="4941720"/>
            <a:chExt cx="4930200" cy="625680"/>
          </a:xfrm>
        </p:grpSpPr>
        <p:sp>
          <p:nvSpPr>
            <p:cNvPr id="122" name="Rectangle 14"/>
            <p:cNvSpPr/>
            <p:nvPr/>
          </p:nvSpPr>
          <p:spPr>
            <a:xfrm>
              <a:off x="3369240" y="4941720"/>
              <a:ext cx="389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Constantia"/>
                </a:rPr>
                <a:t>Геометрическая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3" name="Group 34"/>
            <p:cNvGrpSpPr/>
            <p:nvPr/>
          </p:nvGrpSpPr>
          <p:grpSpPr>
            <a:xfrm>
              <a:off x="7291440" y="5062680"/>
              <a:ext cx="1008000" cy="504720"/>
              <a:chOff x="7291440" y="5062680"/>
              <a:chExt cx="1008000" cy="504720"/>
            </a:xfrm>
          </p:grpSpPr>
          <p:sp>
            <p:nvSpPr>
              <p:cNvPr id="124" name="Rectangle 18"/>
              <p:cNvSpPr/>
              <p:nvPr/>
            </p:nvSpPr>
            <p:spPr>
              <a:xfrm>
                <a:off x="7291440" y="5062680"/>
                <a:ext cx="1008000" cy="504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5" name="Group 19"/>
              <p:cNvGrpSpPr/>
              <p:nvPr/>
            </p:nvGrpSpPr>
            <p:grpSpPr>
              <a:xfrm>
                <a:off x="7362720" y="5164200"/>
                <a:ext cx="576360" cy="340920"/>
                <a:chOff x="7362720" y="5164200"/>
                <a:chExt cx="576360" cy="340920"/>
              </a:xfrm>
            </p:grpSpPr>
            <p:sp>
              <p:nvSpPr>
                <p:cNvPr id="126" name="Oval 20"/>
                <p:cNvSpPr/>
                <p:nvPr/>
              </p:nvSpPr>
              <p:spPr>
                <a:xfrm>
                  <a:off x="7723080" y="5419440"/>
                  <a:ext cx="71640" cy="856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400" bIns="14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7" name="Group 21"/>
                <p:cNvGrpSpPr/>
                <p:nvPr/>
              </p:nvGrpSpPr>
              <p:grpSpPr>
                <a:xfrm>
                  <a:off x="7362720" y="5164200"/>
                  <a:ext cx="576360" cy="340560"/>
                  <a:chOff x="7362720" y="5164200"/>
                  <a:chExt cx="576360" cy="340560"/>
                </a:xfrm>
              </p:grpSpPr>
              <p:grpSp>
                <p:nvGrpSpPr>
                  <p:cNvPr id="128" name="Group 22"/>
                  <p:cNvGrpSpPr/>
                  <p:nvPr/>
                </p:nvGrpSpPr>
                <p:grpSpPr>
                  <a:xfrm>
                    <a:off x="7362720" y="5164200"/>
                    <a:ext cx="576360" cy="168480"/>
                    <a:chOff x="7362720" y="5164200"/>
                    <a:chExt cx="576360" cy="168480"/>
                  </a:xfrm>
                </p:grpSpPr>
                <p:sp>
                  <p:nvSpPr>
                    <p:cNvPr id="129" name="Oval 23"/>
                    <p:cNvSpPr/>
                    <p:nvPr/>
                  </p:nvSpPr>
                  <p:spPr>
                    <a:xfrm>
                      <a:off x="7723080" y="5164200"/>
                      <a:ext cx="71640" cy="8532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4040" bIns="140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30" name="Group 24"/>
                    <p:cNvGrpSpPr/>
                    <p:nvPr/>
                  </p:nvGrpSpPr>
                  <p:grpSpPr>
                    <a:xfrm>
                      <a:off x="7362720" y="5164200"/>
                      <a:ext cx="576360" cy="168480"/>
                      <a:chOff x="7362720" y="5164200"/>
                      <a:chExt cx="576360" cy="168480"/>
                    </a:xfrm>
                  </p:grpSpPr>
                  <p:sp>
                    <p:nvSpPr>
                      <p:cNvPr id="131" name="Line 25"/>
                      <p:cNvSpPr/>
                      <p:nvPr/>
                    </p:nvSpPr>
                    <p:spPr>
                      <a:xfrm>
                        <a:off x="7362720" y="5332680"/>
                        <a:ext cx="576360" cy="0"/>
                      </a:xfrm>
                      <a:prstGeom prst="line">
                        <a:avLst/>
                      </a:prstGeom>
                      <a:ln w="190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2" name="Oval 26"/>
                      <p:cNvSpPr/>
                      <p:nvPr/>
                    </p:nvSpPr>
                    <p:spPr>
                      <a:xfrm>
                        <a:off x="7505640" y="5164200"/>
                        <a:ext cx="71640" cy="8532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14040" bIns="1404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133" name="Oval 27"/>
                  <p:cNvSpPr/>
                  <p:nvPr/>
                </p:nvSpPr>
                <p:spPr>
                  <a:xfrm>
                    <a:off x="7505640" y="5419080"/>
                    <a:ext cx="71640" cy="8568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400" bIns="144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468360" y="4005360"/>
            <a:ext cx="1765080" cy="153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Закончился двадцатый век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Куда стремится человек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Изучен космос и моря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Строенье звезд и вся земля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Но математиков зове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Известный лозунг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ahoma"/>
              </a:rPr>
              <a:t>Прогрессия – движение вперёд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аже в литературе мы встречаемс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 математическими понятиями! Так, вспомним строки из"Евгения Онегина"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6600"/>
                </a:solidFill>
                <a:latin typeface="Arial"/>
              </a:rPr>
              <a:t>...</a:t>
            </a:r>
            <a:r>
              <a:rPr b="1" i="1" lang="ru-RU" sz="2800" spc="-1" strike="noStrike">
                <a:solidFill>
                  <a:srgbClr val="006600"/>
                </a:solidFill>
                <a:latin typeface="Arial"/>
              </a:rPr>
              <a:t>Не мог он ямба от хорея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00"/>
                </a:solidFill>
                <a:latin typeface="Arial"/>
              </a:rPr>
              <a:t>Как мы не бились, отличить..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Прогрессия в литературе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Пример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6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2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 u="sng">
                <a:solidFill>
                  <a:srgbClr val="800080"/>
                </a:solidFill>
                <a:uFillTx/>
                <a:latin typeface="Tahoma"/>
              </a:rPr>
              <a:t>Ямб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Rectangle 13"/>
          <p:cNvSpPr/>
          <p:nvPr/>
        </p:nvSpPr>
        <p:spPr>
          <a:xfrm>
            <a:off x="755640" y="2565360"/>
            <a:ext cx="75553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8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nstantia"/>
              </a:rPr>
              <a:t>«Мой дЯдя сАмых чЕстных прАвил...»</a:t>
            </a:r>
            <a:r>
              <a:rPr b="1" i="1" lang="ru-RU" sz="24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18"/>
          <p:cNvSpPr/>
          <p:nvPr/>
        </p:nvSpPr>
        <p:spPr>
          <a:xfrm>
            <a:off x="755640" y="3202200"/>
            <a:ext cx="8209080" cy="26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Tahoma"/>
              </a:rPr>
              <a:t>Ямб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это стихотворный размер с ударение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на четных слогах 2; 4; 6; 8..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Номера ударных слогов образую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арифметическую прогрессию с первым членом 2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разностью прогрессии 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15"/>
          <p:cNvSpPr/>
          <p:nvPr/>
        </p:nvSpPr>
        <p:spPr>
          <a:xfrm>
            <a:off x="995760" y="5876280"/>
            <a:ext cx="407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onstantia"/>
              </a:rPr>
              <a:t>Прогрессия: 2; 4; 6; 8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77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" dur="770" fill="hold"/>
                                        <p:tgtEl>
                                          <p:spTgt spid="14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4" dur="77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6" dur="77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17"/>
          <p:cNvSpPr/>
          <p:nvPr/>
        </p:nvSpPr>
        <p:spPr>
          <a:xfrm>
            <a:off x="324000" y="1989000"/>
            <a:ext cx="286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800080"/>
                </a:solidFill>
                <a:uFillTx/>
                <a:latin typeface="Constantia"/>
              </a:rPr>
              <a:t>Хоре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4"/>
          <p:cNvSpPr/>
          <p:nvPr/>
        </p:nvSpPr>
        <p:spPr>
          <a:xfrm>
            <a:off x="1464120" y="2349360"/>
            <a:ext cx="60649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8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nstantia"/>
              </a:rPr>
              <a:t>«Я пропАл, как звЕрь в загОне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20"/>
          <p:cNvSpPr/>
          <p:nvPr/>
        </p:nvSpPr>
        <p:spPr>
          <a:xfrm>
            <a:off x="5219640" y="3141720"/>
            <a:ext cx="3241800" cy="44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8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nstantia"/>
              </a:rPr>
              <a:t>Б. Л. Пастерна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18"/>
          <p:cNvSpPr/>
          <p:nvPr/>
        </p:nvSpPr>
        <p:spPr>
          <a:xfrm>
            <a:off x="226440" y="5396760"/>
            <a:ext cx="413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onstantia"/>
              </a:rPr>
              <a:t>Прогрессия: 1; 3 ;5; 7...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95280" y="3933720"/>
            <a:ext cx="856944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Tahoma"/>
              </a:rPr>
              <a:t>Хорей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это стихотворный размер с ударением на нечетных слогах стиха. Номера ударных слогов образуют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арифметическую прогрессию 1; 3; 5; 7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16000" y="189000"/>
            <a:ext cx="7792920" cy="9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Приме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u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77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8" dur="770" fill="hold"/>
                                        <p:tgtEl>
                                          <p:spTgt spid="14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0" dur="77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2" dur="77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8T17:39:23Z</dcterms:created>
  <dc:creator>Мелкомуковы</dc:creator>
  <dc:description/>
  <dc:language>en-US</dc:language>
  <cp:lastModifiedBy>Мелкомуковы</cp:lastModifiedBy>
  <dcterms:modified xsi:type="dcterms:W3CDTF">2012-01-22T12:34:14Z</dcterms:modified>
  <cp:revision>5</cp:revision>
  <dc:subject/>
  <dc:title>Арифметическая прогрессия</dc:title>
</cp:coreProperties>
</file>